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30F-38AB-43B7-9F8E-58D164DE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AE1-79F1-4D0E-90FD-367CA9B1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A33D-DED7-40E2-BB3A-5759341B2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5B30-EDB9-4B48-9A92-F87CDE61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BBE-93C1-485D-88F8-C932AD48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D0D-6694-4E95-987D-CC58DB98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33E5-41E8-4095-BFE8-B541FBD4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45A-5283-4007-BE96-5B9DDB1B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EA67-36A5-4DAE-9CB0-AC342EE1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CFF-2FBA-40F3-B8D0-6A5829FA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4C7-FC48-4CBA-91E5-CBE3F005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4DF-CE0D-4B0D-83CC-15964EBF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5DA9-0500-47E5-B8B4-BC4B22F31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Vokabel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2860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s Wetter von heute – today’s wea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ad – degre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öchste Temperatur – high (temperatur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iedrigste  Temperatur - low (temperatur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 Nachrichten – the news  (used with a singular ver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itzer (m) –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sitzerin (f) - own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rzlich willkommen bei – welcome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uschauer – wat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ebe Zuschauer – literally dear watc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ung –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 - chann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638680" y="835200"/>
            <a:ext cx="342900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nn gefunden – if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fonieren Sie –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icken Sie eine Email a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 = b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ing News – Sonderme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hlendes Tier:  missing 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us –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 about temperament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e ist er/sie/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in or i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m of “to b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rm of “to hav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ominative der or ein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accusative der or ein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7:21:41Z</dcterms:created>
  <dc:creator>temp</dc:creator>
  <dc:description/>
  <dc:language>en-US</dc:language>
  <cp:lastModifiedBy>tmsadmin</cp:lastModifiedBy>
  <dcterms:modified xsi:type="dcterms:W3CDTF">2013-10-30T17:36:23Z</dcterms:modified>
  <cp:revision>4</cp:revision>
  <dc:subject/>
  <dc:title>Extra Vokabeln</dc:title>
</cp:coreProperties>
</file>